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5DE-EDC3-4780-B010-6B5AF24C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507-7677-4840-A097-24C06C5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55378-4A8F-4C1A-8E97-F33B9CB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2B597-5804-4829-A378-247BEED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63F30-6617-4352-AA0C-0622FF0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E1672-6243-4626-8E44-6DDA963B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63CD-0777-4A7B-B12B-9B7F0C77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CC54-7E7F-42FA-9D3F-F13F634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9C11-758A-450E-9D79-5914AEF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4E588-F61A-4903-9D98-2065CE95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63B0-E74B-4BE7-99CF-75AA5153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291D-C991-4970-87EF-F6C3EC75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0A6-5ADC-40A9-A046-1378DA82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389F0-EF3C-40AF-A040-A79B0E1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D31F7-E522-4E5C-8E43-D4E7768A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AEC1A-79C4-4FE5-AAB0-2DBDA2A2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A4139-B87F-4AF8-9798-1355750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4B76C-6A80-4635-A7CB-43EF737E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F23F9-AC9C-483F-B530-313E7A4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DD2C8-7A70-40A5-9985-253BA75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9748F-65C0-4050-9B00-620C555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5B33F-45FA-4455-A11A-D2892AC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ED7D1-E902-4195-801C-C9A7631C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2C8-DB37-48A0-AEED-31BE1722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A6B19-2B44-4DED-9539-BBECB0BB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3854-2214-437C-A6B8-50E6362C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DBB14-B0F1-4C57-9AE3-702CF969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02457-5752-435B-82FD-C8971F14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53522-238D-492D-AECC-630BC90B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40112-B933-472A-8676-3E8CD7E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0C836-17DC-4C67-81E0-1467563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A0B9C-B8F9-4BFA-999A-E3A7DDC4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06220-3785-4A65-9A2D-8484289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D6A87-DC08-4478-BC9B-7D6BC5F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A887-B9E6-41FD-944B-92364E51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9A0D6-4CC2-4C78-A8D7-8BAF6048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CCCC-0665-4D6B-83E1-2D6E48DB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1E21-DDBE-4943-A334-DAEFED21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DA675-5B27-491B-9524-FCF2196C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F5E1B-5B85-45DB-B835-72971ACB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F9C04-B510-45FE-8D9F-00BA13EF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D8F5D-0F95-4EEB-B4CC-F9B946FA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FBFF9-1A88-405A-AAB0-9068B0E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FCDB6-A245-4BAB-BDEB-C6635BC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23B61-1815-48FF-86E3-4415E7E9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FA3-DEBC-494A-80E2-7E6ECF8C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1005A-E535-4035-8C75-9A5BAD5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BA8E3-F4BC-41A7-B046-0944EF5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2715F-A5EA-44B1-82B7-008CADD8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F8490-28C8-4393-94A2-28BD1823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733B6-BC4C-4A27-80B0-DE58A417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6FAF1-0AFA-4E15-84F1-137CF66B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40598-99D5-4E12-99EE-840D163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B2F97-C4C5-400C-8298-52B08767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D708F-7C6A-464D-9FF5-279443B6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9A44B-D1B9-4DE5-B2E4-0C1A0958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A6C4-FBDC-4BA4-80EE-E67CEA1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20915-B171-4D15-96FF-E8040EF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1A71-DD9B-4545-98AF-D35E111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AACEF-0293-43F5-B867-EBADBF7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0D119-5B3A-400E-9753-FC10468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09AC0-52A7-4BA9-BD37-2D397A2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32CF7-E961-4D30-B406-909D92F9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F4580-1334-4436-AA2F-51C47237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860E3-B748-4E8D-AD66-9D7E0C79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F3569-9D9A-410F-9B1B-2589DA5D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F870D-63B7-4A94-9CFD-DC4DA0E2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CF2C-E62B-4403-8509-E933210A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FC6E1-4AA8-4992-8E08-E749941D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A3294-D72A-4714-841A-6C714048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E46C1-B917-465A-BE9F-2CF969EC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C97AB-F07F-4394-B374-7A02A34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B6942-54F0-403B-9AE2-CCAE4C0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7834F-66FA-40BC-9CC3-205A071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D2083-0A1D-49F8-86AA-EAFC4A94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ABCCE-78C3-4606-BEA5-98E81615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FFD2E-8C10-4546-8A2E-3200C620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AA1C9-35F8-4494-A8D7-1F51BDD4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9C65-475E-4840-A633-23F33F37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F8BD1-39BA-40C2-8E05-2F1B9F9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937A0-F0BF-4CD3-A234-DA5AC51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08F13-8505-4696-8E05-0B2F4DE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8A7CB-D123-4C2A-BD43-5E476B04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E50B5-BFB5-43C8-B203-C69DBE8A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A2BE6-4941-4E41-A65F-A0A9CCE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37984-AA84-4CA3-83E3-F954BAB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E7EEF-1BFB-4E39-A5E2-1BC70AC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BE7F8-D5BF-4212-9500-FB351BF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AA0BB-4A1B-48C7-AF5F-6F81C8C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E81D-62A5-48C9-B594-B20858DE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0A9E1-016A-4D92-84EA-71576EC1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28E3A-FDEF-4869-867D-DAAE0C92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6DE49-4C0D-4CC2-AD46-C51AD5D3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FB29E-1504-4D1A-8F82-B9548AF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08F95-BC26-4CE6-96EB-A2DF97F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9B1A6-5EDE-4C4F-9E16-1F0CFC0B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62EB2-D24A-4B3B-9A05-F1AD814E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A990A-088C-4822-827E-32FD0C4A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4591B-6D65-425A-AC46-914559E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0B23F-FFEA-40CC-960F-D7F143F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AF75-6CAE-4B8C-94ED-899FD8A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8EE0F-80C3-4395-A0C3-ED0E5B44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52A04-544E-4AF5-9436-0AEC14DD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B0D7A-70E4-4142-A549-D759C12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C3D5F-1E78-4C15-8F36-285A53FA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EB825-1FED-4218-BCCB-8E03FD7D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59D0B-17E6-489C-A718-6E4D54B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861D9-E3F2-4BDE-B5D0-1871EE1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72347-FBEF-4C68-8964-A1F5D762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33342-9BC3-4CB4-BC1C-2D316AB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8AABD-A727-4EC7-83FB-53AED90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B69-1603-4025-9657-40CB3E89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25A-B1E3-4B59-8BAF-803F87B4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AA619-5274-429D-87DF-5086039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4B5E8-BD09-4E41-9C69-5CBF7DAD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A2515-F4C0-4EC8-8A25-0A3FCEA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000CC-3C84-457F-996C-5F6BB570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C7943-D7DB-4187-8CB7-6857747C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33297-BC58-4247-A7F2-8D0E9CB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BCA10-C252-4631-9610-1769BCFF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E2250-825D-4409-BF45-277967D7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CDEB0-A69E-4646-9E9A-C65D0EA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D3329A-D257-4744-B62F-291C5B7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C3FD-7971-4C55-A04A-380AE975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FAA55-EB66-4E79-9CC4-93C7AAF2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C1ADD-7FE6-4EE1-B3B0-54B0B00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8EE3D-3E65-4B62-B6CF-5F76D51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BAAB7-D7AE-4B2B-8063-98AAFDD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0D8CD-D63C-4B9A-AB9E-520B445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CED08-20D7-4AC6-95AF-02389FAD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554E6-9BB6-4BB8-B5C0-0D7C234B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EA579-1B5B-4254-89F8-D02EFABA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A38B6-8F74-41CD-A25B-384B2B2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31734-8648-41FB-89E8-41861932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1548-FDCD-4D18-9CDA-A254F813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302CC-BB14-41AE-BFA5-1AC217C5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210DA-20ED-478A-9756-F5940566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8DEFA8-46AC-44AE-AA39-3448C19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22045-542E-4079-8993-890CE24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88E66-92CD-476E-B804-20E60A7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CAD1A-00A3-4566-A61C-35B6E81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49095-844F-4898-8220-F3401136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A666F-47A5-4464-8883-C7E80AFB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E02F0-4CB3-482B-888C-31D4EFD2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66C65-2EAB-4CC7-BB82-54B7CB56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2CFB-3757-4914-B3F9-1CEAF224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DB38B-1479-4F89-B5A7-DA48846B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3BF2E-3047-4ECC-B790-4B0E8A3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DEB4D9-D6A7-48C5-B14E-D37E4D4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5E89A-030A-4A9E-9CC9-5187FDB7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D2235-2C4F-4DEA-BCC7-6803D4CB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2211A-F6A3-47EC-85FA-B086702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9234C-C1F2-470B-9269-DC323915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AAC82-D7C6-4076-BA6A-8916720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516B8-1453-4CBA-9B0A-0C321FD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0819F-5D9E-4566-8615-EBE579EA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B689-89A2-488D-A58B-DBA46056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1B48E-FA90-40D6-B5A7-B2EF58C8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5B7FD-000B-4D5B-B815-612ED73D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4E33B-C3EB-4D47-A272-6E10BA7B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230A6-193D-4877-AFCE-73B06A0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B6FCA8-15A0-4E15-8221-EBBEF9D4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B0DF5-5A9E-46F9-88D1-D46F71B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AA73D-0BE5-420C-8AA9-710E0842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DFFFE-1FAD-44B0-9432-713DADA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B472F-1E61-42BD-AE31-421A767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3772A-2FB4-4367-9DD9-C6712FC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5107-C350-4703-94F9-E2856122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D7E3E-FA24-4683-962F-2FEC4F1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EDB11-DFD2-4020-A56F-66D7BEB5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9CE45-1631-45BD-945D-1BBF3E2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83FD06-FDE4-4DDF-B283-8FC0F145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111CC-8BF3-4B0C-96F8-9F4F571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B797FB-E06E-4EA3-A13A-81FCD924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7F6F6B-D2BA-40F4-A9AA-E332B99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802D9B-B07C-49AB-BA64-0F1BC6E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602EC6-5537-404F-B9F6-9A9CCFB7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D7858-5D9B-40ED-90FC-0397E30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06CF-0C7E-4EAE-88C4-B8F3ED1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E61030-A811-4AD1-8894-3BB4603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A3AC82-3E99-46C3-9B8E-E582BFFE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23622-EC19-41A2-BF14-410261A2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5A8C82-DB8F-4A5D-8842-39559F74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4F86F4-9AB4-4275-A1DE-07EC1588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54E85-8306-498F-8851-EB821589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CB2E82-9A0D-4DE8-B51E-4AB979F7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6F77C1-C9A1-476F-928F-3500C4A0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4830B2-7972-408B-A436-E29448FD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FA805-33A0-4B11-ABAF-56E8B0C0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0B6C-80B9-435E-B351-6D619F4F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CA0C1-9147-41F9-AC64-F88CA20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63E1DB-4327-4305-A186-CCD6DF4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3D7E9-B05A-40F4-AA77-1D658EC0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B51A5-4595-4C39-A697-181BBA2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DBA75A-BDE1-4C5F-B076-7A281CF2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E4A0C5-E122-46E5-A332-90506BA3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C6175-4FFA-45EB-82C2-229591F5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013808-4C2C-4630-8F41-BE544335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00E138-3111-4688-882B-7BB6413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E3952A-D91B-4EAB-BB5C-24EAB0E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EE93-2F76-4329-92E4-00E7CE25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BA9495-271B-4927-BF04-F188666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98B5CF-BC92-4278-B894-342B6FE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556DE1-94A2-4715-A2F0-0A09701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5D7CD1-FF81-4E39-A0C1-9AED54A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3B599-D4E8-44C9-AB36-C620B97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4CC92C-547E-496E-BF55-6E3677E1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14D359-A32C-429A-9495-041DC0B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0EC72-C5FD-4F18-BC92-DDEDAF14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5F42DF-3F18-4744-95E9-446C0BC5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FEDB9C-28B5-42C3-8A54-50544A76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9DA9-15BA-437F-B1F8-9768BF3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B21F26-B76E-4B3F-AAB0-19CC2A9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8D6576-DF82-49AA-B9C1-2F1DB128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63AA9C-2972-4C5B-9F71-C1D87A05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37E2D-28B1-4E42-BE31-B4C7E9B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A9BE49-93D0-42BE-9497-2511F70A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E5E84E-8996-415C-B532-0EE801D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345838-01C8-4A33-8F07-EA4234C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DAD57A-C73C-43F7-BD72-C6FF59C6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D33D6E-DBC6-49F7-90BA-095AD196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C1DA28-1425-4A45-92D6-02FB0A91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24D-F9B9-4718-AF52-992FD460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F223-3750-4027-ACEA-1DF15EB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914419-6824-4FB8-BD34-0D893C62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69F727-2485-43E2-AE66-34CE0316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779EE8-E028-4934-ABE0-96E06278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E2765B-AF84-471F-895A-B8B6FAE3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7D2A73-D10F-41A2-96F1-39B633B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A6DF20-27FF-4884-9E82-DA94EFB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EFAE02-1BBC-4A7D-B041-E9C81C1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7B68B7-0B78-467C-BDF1-BAD90D5C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72A03E-A943-4B27-A5FB-B04312E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C58ADA-C512-4E82-886B-AB4E37F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94E1-9E93-4FB7-B408-C218217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FC0608-6CBD-404F-AF32-FCB9B0B0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8FD8C2-D549-4A07-B8F5-C3E8F96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A45AF3-014D-42F3-9373-7F2E3EEA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46259A-B39E-4B76-BE38-1EE322F6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AA5106-0D09-4268-A476-D4F59F14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5445BD-8BC7-497C-B0E5-60E2C59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31B51E-D4E0-4A11-9D31-57C3153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042620-D321-42B3-A4DD-8F21832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3172D8-B0E2-40CC-A5D4-9C3532E3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52470-372F-47FD-9533-EF1A084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D50F-391A-4B5F-950B-B770F00A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CF41D0-E793-46F4-8F55-981D9B4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E13843-107E-45A1-9901-4540F1A2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5C2E91-F50A-43AF-97B3-D50BD718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F3E745-6A41-4639-823E-0D5AEC1E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DEF2A2-E2DE-4602-8485-C90B7EFB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C825C2-EA66-4EC6-9D54-AD8A9935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71BB25-3C7D-4503-8368-A49919F1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D297F3-8E8F-4FE2-8F52-332E42FE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A11ABA-69A5-4559-8B4A-A9A86F03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411983-CBD4-4056-AC90-F80B0A3E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4BD7-03B0-4FEF-BDAC-7C63F6C9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E0CD03-25AE-4D4A-B993-C97A2572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96C763-030B-4201-8393-92B74A2A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05CC29-2471-43E5-956B-D385E6F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3EA395-C4C7-4073-8FAB-604C9CF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E320EF-D595-4329-A382-A293E869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136089-8570-4F0D-9A7F-60724D2D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AA365E-223B-4CD6-B945-C61A56E4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D2216E-05FB-417E-BEA3-AB884F14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46DD9C-AC78-4513-A87E-2025A897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CAFED8-55DB-4A02-8047-F2226C4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7964-26B1-461D-BED9-14D8AEC0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45CF30-768F-4572-A047-C148D71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DDE9DD-1016-402D-A2A9-553367F1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F740B1-1D9F-464F-8B8E-0537284B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F5DB79-1A94-4BA6-A623-9D241BA5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094B43-8656-4CBC-9BDC-0959083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97ACA2-C6E7-4019-9427-732A94F9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9DE111-C7C9-4BCA-AB22-4ABDD68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B90CC0-47BC-48D0-98D3-02403E98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412858-CD35-49CC-A044-5480EA3E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52691D-F60F-4421-AD40-6A2240F9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09EA-20B3-482F-9432-9822F30B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E7D417-B9F8-4484-AC6D-9F005D29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379FA1-DF21-49BC-8611-8EB641C2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37AE53-5F71-4867-8FDE-64A3B07B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A8BA3B-215F-4ABD-A01E-2D538F3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D72B4F-FE40-4F66-956A-7044F82A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3A3FFA-A654-4E1F-A05D-0518179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D2DD67-6216-4CEB-B65B-DD6C979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721742-0C6E-4BA4-8892-462C0364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E3BBD9-0101-4CF9-8ED9-56C3AF4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E758E9-91CE-403E-BD37-7F1F38B7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E732-C497-401F-A71F-233F50F9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9A7E28-5B19-4071-84D2-157F8612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2CE808-2735-4212-8E02-29BEB3FB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4D30F0-669A-4AB4-9B8B-A2D40BB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B3B8F9-705D-490B-8697-9356E3E8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4C6A1A-723D-4636-9A80-A602D903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BEEC35-590D-41B7-AEBA-97B1E4ED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376E5D-DD7C-418A-B446-30284739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B0EF53-4672-4DDE-BF9C-8FCE004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40F6E7-9462-4541-B612-03B0756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5C89B0-4255-4B04-9AF5-F95721DF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302E-DAF6-4916-957E-911B9F90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32DA9C-B97D-4246-A5C4-646402D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80A387-FEEC-49E0-9466-8D6115E1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B1D918-B5FF-49F4-BE0A-1BDDD2F1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A99DDE-53C7-46B7-91A1-321EC58E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23C4C2-F57D-42FB-B47A-2BE11831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CFCBF9-4946-4C6C-9F29-B61DD4B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7BF9D0-08CC-4119-9377-7F3E790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D95229-03D6-4E17-AE97-E61B8A8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690757-6A8E-4FFB-8243-493E48E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B84811-C02F-4B03-8306-613B769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A74A-08C4-4C91-BD4A-42A92BB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EEC4D4-3BC3-44A8-851D-0BFE7DF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EC9A49-1332-4FEA-BF00-57138E5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04B932-015A-4819-8B8F-1DDE2473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D8AFF0-601D-40C7-BAB8-74D2BBD9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22C757-806F-4DD7-8C7A-2EC82A92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139CB2-388F-4C88-B4DE-F2E826BB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E46DA3-FAB8-4BD3-B50A-FBBFEC1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7244A1-527E-4D6D-8373-8E46298F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96928D-1E6A-447E-B156-5A73C773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1CB256-997E-498A-BED4-91EB5B8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FD1C-23DE-4F2A-A826-1CB35F3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BCB8F5-648E-4EE1-82C4-1FDEF7E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6BD36A-AF6C-4619-BD69-FD3BAF0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43F05A-EAD5-4035-A906-7D2F632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5C1AB9-0F1F-4A44-AC7C-E48612E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E1C723-8CD5-468A-9217-305D4115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298903-F74C-458F-BF2A-CBA2168B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E054EE-B2D2-4C5F-9E5B-B9597C77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BDFD46-0B2D-4C13-BA8D-598102FB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CCC743-68DD-428F-A403-560FFEF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55D38D-FAE7-4A00-8000-3645ADF2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691-8D1E-4741-97CE-F334D85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6D11-AF98-4148-A6AF-338206D8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690771-507C-40C1-87A0-5547B48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21F88E-335F-4E7C-B67D-CF74CD16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691886-85D6-4E0B-B1D9-A435BAED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AE1DE1-430A-4A74-9FA0-A97BC28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B67892-F7B3-42D4-B009-0F4EDF1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CD9BC2-242C-4B4D-818D-96AF3C1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47AF6A-B606-4B55-B297-98255764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5A5CC0-C6A9-4273-A653-F3A12A70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514507-0E47-4AA7-A68E-C1AFF8FE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7AA42D-BF8A-4BA9-A8A5-A416B2A4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BE1A-5FBD-4661-9F2A-1068C07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7E8601-4253-4C1D-B2FC-27A5BD9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DAA9EA-E0DA-4AD4-9B39-6261D6C5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CE2B6E-F219-43FE-984F-66870DED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93230B-87FE-451C-AC50-53C116B0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564420-ACDF-43B9-8C9F-184CF80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999D82-4542-4A56-941C-A88E2B9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4C37D4-E573-4327-87A4-54E2408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172E93-7F98-4675-97D7-19F0C86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05319A-4B89-46CC-AD72-E12DC7A5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CE1918-753C-48AD-B1B9-943B4EF4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3272-C418-4CB6-BF7C-2713FCD0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6FC739-1CCB-4D60-B8EB-C9C41A63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64B8C9-CC7F-44E3-B9D4-A24214A6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4F1D3A-4164-48E1-B7DC-13BED62D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F84263-8166-4410-A181-F57C5CA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C100DD-E828-461E-912E-9C0D7AA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9DD3EA-2B7E-49D4-94E7-F5A15856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7E31DF-F1DB-42ED-93EC-3F341BD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561E8E-EAA3-461D-8EEB-3679E97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D8EF7F-F542-4A42-BEC8-CF55323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39080C-1F35-478D-BCDE-1C64F0C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97390-8253-4723-A1DB-DBFAF0B8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2DBE09-AC2C-46F0-8121-639D21B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15FDE2-7532-42AA-9FE5-AE933FC4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F8BC11-4AA5-4E9E-A64D-0B2ED9D8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30EC-344A-4D9D-BDFA-3DF2219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F4F4-714C-4A06-BF4F-8015DEE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789F-228F-4775-BA9E-D0D22C1B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028B-8285-4348-ACDB-83291CB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46CA-7B6B-46ED-B97C-B7631FD2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DDD6-1535-4E50-A5C8-779B44C0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F1C-9B34-4506-8F63-8E4DEF4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858B-19A7-4035-A71D-59BE1FF8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055E-9C32-4E3E-A8E5-C1380DFC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ACC4-6D64-495A-9425-449958ED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045E-DF0B-429C-8495-07F8591B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7C64-71D4-4010-97CB-80646393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5FDC-FB2E-4E4B-8703-DFE8521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ABCE-DF8F-4155-B9A2-68FD542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40BE-A656-48B2-A077-F90EEE8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47F7-F6DA-49CF-A6C3-77004C9F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31FD-D3E4-420C-8EA8-CA9B50BD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5C5-C13E-4FD4-9278-956ECA2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81D2-5D4B-47D0-B060-3579839D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801B4-AAB7-41AC-B445-0BA3702C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EC27-FCF7-4B03-BBEE-88522B2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33CC-17C6-4C3C-83AF-BE3E5CD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E5CE-DF40-41CD-A6B2-E5A0EC67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5855-57DB-457B-8B3E-C757B596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97B22-86CF-4D5E-999B-08A8C78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A5D3C-F52D-45DB-BB49-EE602A6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A0EDF-706F-4256-BEAC-D746079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C3D3-A81B-49FF-8400-672A05C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789-2747-4E79-AE63-72DB776E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B8DDB-DC2E-4C6C-86FA-8A743652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A0C62-39D9-4577-9362-1E2902DD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3470-9B59-41DC-B7F4-B90E3F8B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96D99-00E7-4A94-8C69-8F355ADE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616D-3126-47D3-BB66-7BEA135F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002C-8939-4D5A-AD93-5CBFE549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1E08-9298-4B2C-B9C9-8E00D19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EE4AA-05E5-4380-9463-D3E257B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5E7CC-2A61-475A-8B91-77351E2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B660B-73D6-49BD-84B6-D4B5FDE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A04-120B-4FFB-B15E-87DEDAA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53E4-F3A7-4838-9BB8-ED13CFA1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F5B67-D52E-4DE6-9107-628025B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D3D1D-EAD5-42AD-930C-32C31A37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FE188-8C44-41A2-9D9E-F29716B6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8E01-D3E8-4D43-9C76-F1C82607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2C5D-35F7-4141-B0E0-DC51AB5F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C3B45-56FB-491F-BBF7-191C89DD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44A8B-DBD5-4493-8203-959BE16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311C0-40AF-44AD-9D63-9F2313B6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702EF-F8C4-4A70-A65A-5AE4EC4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D13-A5BE-4C75-9DB9-4BD45C1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12438-7D26-4F19-A5C6-FDDC11E9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A3636-A953-4D37-860D-6B84D6C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6F13-00D7-40AD-9566-98990EF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00069-B243-4EF6-B0E3-D4C7CE24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4D1D-E681-466E-AC2E-CAA2A469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422A-6030-4287-A0CA-EFC2C34E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0AC34-53C9-48DE-BB3A-1B9F289B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A768E-9AD7-4390-B1EF-700D8BF0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92E8-620D-4F84-9527-96AF14D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117F8-D421-46DE-B50F-0EA4E08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BC0-C9ED-4B41-821C-48726720E0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6D1-9B5A-45E1-95FB-47466DD6FF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69D-CB70-4F58-A2AF-A61B3BFAF10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A84A-5A61-44E1-942C-737E2FAF34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F722-6AB6-44A7-941C-A73C7B35CC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85EA-6B36-40C9-B4FE-030C56F64F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3C7F-D7E8-482F-8845-CBCBFD5268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DEF-B781-45E7-9CFC-5CD96DE344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891-972D-404E-9811-3529F3E3C3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5A9E-0641-43C0-8A33-072C1A076A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EE29-EC94-46A9-A05E-CD4280F110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B4A-2E83-438E-ADBD-2201E627CD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 type="sldNum" idx="60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C99F-E5AC-4E6E-A1E2-73E2A1DF20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9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C52-6EAD-49EB-9472-5EFD80B35D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6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E9E7-2B85-4355-9B9F-A21613C9C4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66E-38B2-49B1-85F4-BD61C95E11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3FF5-9209-4369-80D9-CEF79FEB73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6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7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7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7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AC99-3E51-45BA-9DE8-47FDADBD3F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7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7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7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7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38A4-6480-40E5-BAD7-99D5CFEDE6A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8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 type="dt" idx="7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 type="ftr" idx="8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 type="sldNum" idx="8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1571-809E-46F7-A108-634897DC0A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8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87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dt" idx="8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ftr" idx="8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 type="sldNum" idx="8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651-A15F-4EDF-9DAD-78B569B66A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3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94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 type="dt" idx="8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 type="ftr" idx="8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 type="sldNum" idx="87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E2A2-A23F-4249-888B-87A76EBA6A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90D-162B-4F92-BD53-69D8C750642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0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1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 type="dt" idx="8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 type="ftr" idx="8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 type="sldNum" idx="90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676-3F9E-43B8-98F9-DEBE87B6BD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9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9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9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C7EE-113E-4A83-BFCA-A31D50A6D7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4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15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9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9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9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686E-6821-43F5-B2C6-3FA109B4DA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 type="dt" idx="9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 type="ftr" idx="9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 type="sldNum" idx="9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61B1-F1FB-4B1C-A549-268D3B109E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 type="dt" idx="10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 type="ftr" idx="10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 type="sldNum" idx="10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2E87-6DC9-4461-B3AB-C8197C37E4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0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0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 type="sldNum" idx="10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2ACC-40CD-4F6B-854B-903A91FA4D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4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4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 type="dt" idx="10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 type="sldNum" idx="10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443-C327-4EF6-81E7-32B0FA7E14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2F1-AF5A-4BF4-B675-0BA14CD15B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CB8-7C27-4381-B5F2-69C12281C2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E3AF-50E6-4039-AC5A-6A2D5FA676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D49D-F754-478B-9D4D-5AAA703C81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7D7-9FAF-4C2E-85C9-D76372008B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EF1-17EA-4049-A6E4-63E5FBDA1F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Доли.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Обыкновенные дроби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                                 5 класс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30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Как единица на доли делитс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Людям часто приходится делить целое на доли. Самая известная доля – это, конечно, половина. Слова с приставкой «пол» можно услышать каждый день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entury Gothic"/>
              </a:rPr>
              <a:t>Полчаса, полкилограмма, полбулк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878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Возьмем отрезок и разделим его на 4 равные част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аждая из равных частей называется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доле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аждая часть –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493" name="Picture 15" descr="отр"/>
          <p:cNvPicPr/>
          <p:nvPr/>
        </p:nvPicPr>
        <p:blipFill>
          <a:blip r:embed="rId1"/>
          <a:stretch/>
        </p:blipFill>
        <p:spPr>
          <a:xfrm>
            <a:off x="5715000" y="1665360"/>
            <a:ext cx="3124080" cy="204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4" name="Object 20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24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6" name="Object 21"/>
              <p:cNvSpPr txBox="1"/>
              <p:nvPr/>
            </p:nvSpPr>
            <p:spPr>
              <a:xfrm>
                <a:off x="4546440" y="3746520"/>
                <a:ext cx="4384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54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руг разделили на шесть равных часте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аждая из частей составляет одну шестую круга 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Пять частей из шести закрашены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Говорят, что закрашено 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entury Gothic"/>
              </a:rPr>
              <a:t>пять шестых</a:t>
            </a:r>
            <a:r>
              <a:rPr b="0" i="1" lang="ru-RU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руг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2499" name="Object 6"/>
          <p:cNvGraphicFramePr/>
          <p:nvPr/>
        </p:nvGraphicFramePr>
        <p:xfrm>
          <a:off x="5462640" y="1600200"/>
          <a:ext cx="240984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2640" y="1600200"/>
                    <a:ext cx="240984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1" name="Object 7"/>
              <p:cNvSpPr txBox="1"/>
              <p:nvPr/>
            </p:nvSpPr>
            <p:spPr>
              <a:xfrm>
                <a:off x="6610320" y="4871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Object 10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Object 11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250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5" name="Object 12"/>
              <p:cNvSpPr txBox="1"/>
              <p:nvPr/>
            </p:nvSpPr>
            <p:spPr>
              <a:xfrm>
                <a:off x="6370560" y="1600200"/>
                <a:ext cx="596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6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7" name="Object 14"/>
              <p:cNvSpPr txBox="1"/>
              <p:nvPr/>
            </p:nvSpPr>
            <p:spPr>
              <a:xfrm>
                <a:off x="6948360" y="2276640"/>
                <a:ext cx="435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457200" y="102960"/>
            <a:ext cx="8229600" cy="62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и так дале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называют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entury Gothic"/>
              </a:rPr>
              <a:t>обыкновенными дробя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Object 6"/>
              <p:cNvSpPr txBox="1"/>
              <p:nvPr/>
            </p:nvSpPr>
            <p:spPr>
              <a:xfrm>
                <a:off x="2627280" y="404640"/>
                <a:ext cx="180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3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4" name="Object 8"/>
              <p:cNvSpPr txBox="1"/>
              <p:nvPr/>
            </p:nvSpPr>
            <p:spPr>
              <a:xfrm>
                <a:off x="1187280" y="2565360"/>
                <a:ext cx="2271960" cy="33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5" name="Text Box 10"/>
          <p:cNvSpPr/>
          <p:nvPr/>
        </p:nvSpPr>
        <p:spPr>
          <a:xfrm>
            <a:off x="3543480" y="2781360"/>
            <a:ext cx="31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ислитель дро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казывает сколько долей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12"/>
          <p:cNvSpPr/>
          <p:nvPr/>
        </p:nvSpPr>
        <p:spPr>
          <a:xfrm flipH="1">
            <a:off x="2700360" y="3068640"/>
            <a:ext cx="792000" cy="4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13"/>
          <p:cNvSpPr/>
          <p:nvPr/>
        </p:nvSpPr>
        <p:spPr>
          <a:xfrm flipH="1">
            <a:off x="3276360" y="429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15"/>
          <p:cNvSpPr/>
          <p:nvPr/>
        </p:nvSpPr>
        <p:spPr>
          <a:xfrm>
            <a:off x="406728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 Box 16"/>
          <p:cNvSpPr/>
          <p:nvPr/>
        </p:nvSpPr>
        <p:spPr>
          <a:xfrm>
            <a:off x="3983400" y="39988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робная ч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17"/>
          <p:cNvSpPr/>
          <p:nvPr/>
        </p:nvSpPr>
        <p:spPr>
          <a:xfrm flipH="1">
            <a:off x="2916000" y="544500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Text Box 18"/>
          <p:cNvSpPr/>
          <p:nvPr/>
        </p:nvSpPr>
        <p:spPr>
          <a:xfrm>
            <a:off x="3829320" y="5151600"/>
            <a:ext cx="329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наменатель дро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казывает на ск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долей разделили еди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5"/>
          <p:cNvSpPr/>
          <p:nvPr/>
        </p:nvSpPr>
        <p:spPr>
          <a:xfrm>
            <a:off x="1258920" y="836640"/>
            <a:ext cx="649080" cy="649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8"/>
          <p:cNvSpPr/>
          <p:nvPr/>
        </p:nvSpPr>
        <p:spPr>
          <a:xfrm>
            <a:off x="1908000" y="836640"/>
            <a:ext cx="649440" cy="649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9"/>
          <p:cNvSpPr/>
          <p:nvPr/>
        </p:nvSpPr>
        <p:spPr>
          <a:xfrm>
            <a:off x="2556000" y="83664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10"/>
          <p:cNvSpPr/>
          <p:nvPr/>
        </p:nvSpPr>
        <p:spPr>
          <a:xfrm>
            <a:off x="1258920" y="148428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11"/>
          <p:cNvSpPr/>
          <p:nvPr/>
        </p:nvSpPr>
        <p:spPr>
          <a:xfrm>
            <a:off x="1908000" y="1484280"/>
            <a:ext cx="64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Rectangle 12"/>
          <p:cNvSpPr/>
          <p:nvPr/>
        </p:nvSpPr>
        <p:spPr>
          <a:xfrm>
            <a:off x="2556000" y="148428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13"/>
          <p:cNvSpPr/>
          <p:nvPr/>
        </p:nvSpPr>
        <p:spPr>
          <a:xfrm>
            <a:off x="1258920" y="2133720"/>
            <a:ext cx="649080" cy="649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Rectangle 14"/>
          <p:cNvSpPr/>
          <p:nvPr/>
        </p:nvSpPr>
        <p:spPr>
          <a:xfrm>
            <a:off x="1908000" y="2133720"/>
            <a:ext cx="64944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15"/>
          <p:cNvSpPr/>
          <p:nvPr/>
        </p:nvSpPr>
        <p:spPr>
          <a:xfrm>
            <a:off x="2556000" y="2133720"/>
            <a:ext cx="649080" cy="649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Text Box 16"/>
          <p:cNvSpPr/>
          <p:nvPr/>
        </p:nvSpPr>
        <p:spPr>
          <a:xfrm>
            <a:off x="4119480" y="639720"/>
            <a:ext cx="42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Text Box 17"/>
          <p:cNvSpPr/>
          <p:nvPr/>
        </p:nvSpPr>
        <p:spPr>
          <a:xfrm>
            <a:off x="3635280" y="1546200"/>
            <a:ext cx="5184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колько долей разделен квадр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акая часть квадрата закрашена красным цв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Какая часть квадрата закрашена желтым цве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3" name="Object 9"/>
          <p:cNvGraphicFramePr/>
          <p:nvPr/>
        </p:nvGraphicFramePr>
        <p:xfrm>
          <a:off x="395280" y="1268280"/>
          <a:ext cx="480852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480852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5" name="Text Box 10"/>
          <p:cNvSpPr/>
          <p:nvPr/>
        </p:nvSpPr>
        <p:spPr>
          <a:xfrm>
            <a:off x="4427640" y="1773360"/>
            <a:ext cx="43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кая часть  квад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ашен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1.красным цве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2.зелёным цве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3.сиреневым цве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4.голубым цве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7:52:28Z</dcterms:created>
  <dc:creator>Рита</dc:creator>
  <dc:description/>
  <dc:language>en-US</dc:language>
  <cp:lastModifiedBy>Admin</cp:lastModifiedBy>
  <dcterms:modified xsi:type="dcterms:W3CDTF">2019-08-16T09:15:29Z</dcterms:modified>
  <cp:revision>7</cp:revision>
  <dc:subject/>
  <dc:title>Доли. Обыкновенные дроби.</dc:title>
</cp:coreProperties>
</file>